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30DD-C634-43E1-99B3-9777BFD06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F7B8-09F6-4CD4-8665-A6BF684C8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F1B1-D3DA-464A-B926-31BF1B18D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0404-E50C-4CF7-8A69-607499A15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B504-C911-4893-A5F7-5996FC7C9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DAAE-AEA2-42D4-BD03-A9F88FFE5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E4E7-1CDD-4378-8F83-3124ADB46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881D-C257-485D-A365-FBB17C592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C89B-081A-4094-B4A0-A140A46A1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1316-175D-4304-B52B-BC4FB2551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5FCC-FEC5-4D11-93B8-26302B6D3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F9F1-9C63-4327-9DAD-435B5F0AA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30C4-7A02-40C5-BBA8-B980AC70F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1F20-C664-436E-B636-AF1120DBC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20C5-EB5F-4573-B9C6-D90232094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6F9D-CB1D-46E4-994C-312835774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D56B-8EBE-43B4-ABF1-3C5D485A1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5EB3-97D0-4D09-9E90-DF7D9DB5E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781B-08C9-43C7-8FBA-8621EEF2A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AF49-7D18-42D6-ADC2-EE310F3B1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77FC-7968-48BC-B65D-62E9E07BC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0409-ACE8-4CCF-B1E3-685EC9319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54A0-4354-43C1-9F9B-51BD52901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7C11-1FA0-4EF4-9BBD-512BF421E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97DE-E29C-4ED3-9B1D-643AA4929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B463-927A-42A9-9A4C-698020969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A8C9-36FF-490F-AB26-F7D4689CE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1815-D522-45CF-8249-19C522089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BA56-F922-4F8A-9493-65C7292B7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8A3E-F046-4D48-B659-16269A065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F51E-F223-421A-A17A-B33E7FBDA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3A0A-9938-46BE-9F7D-0A11DACC3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7F9D-DE64-49AC-A0E7-CF9051213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0BCE-3E6E-4087-89A1-B54B1F765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A600-8617-49FE-8EB5-2C0251ACE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272D-40FD-4228-A3CB-7AE20DFA9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4EE9-D497-413E-8C5E-C403176F0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B2D8-5606-49E0-B7D0-9654CB369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3110-54E8-4B4C-AE41-1988044CF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D6A4-5730-4888-A11D-791609ED0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D268-55F0-408A-85F6-15292066C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D486-DDDC-4BB4-8C2A-3ABF31526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EC66-2921-45F9-B76C-53EE8E62F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AF8F-1CCE-48A5-A0EE-2607C631D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F4DD-C42A-46B0-ADDE-41ADC220F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1854-E9FD-42CF-A532-D3D360C97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091E-3FAD-4E58-ADBD-C72972E5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885060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0760" y="4038480"/>
            <a:ext cx="885060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CF96-A8D1-4BCD-BC5D-514512EA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0760" y="403848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403848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6605-05BA-4F3A-8305-79B1C3E9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3440" y="95544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6120" y="95544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0760" y="403848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3440" y="403848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6120" y="403848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8C2C0-1EB4-43D8-AFF6-7F215601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13EF6-50A3-43C4-9B62-8EC1D265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6BA50-6DE3-41E5-B02C-698FFCBB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8D431-A3FB-4046-A9B5-07C81445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4318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955440"/>
            <a:ext cx="4318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A955A-A108-4C37-AE29-EFCC05F9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2ECB7-CEAB-4C08-B163-37FCC78C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28257-D75B-45B8-B902-B8B657D4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955440"/>
            <a:ext cx="4318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0760" y="403848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503A4-9261-469E-8FDB-A62401DC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1189-2FD6-4FD0-B5D7-BDA687AF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4318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03848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42059-D3A2-44FC-8622-54432D9F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760" y="4038480"/>
            <a:ext cx="885060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E2A86-045A-4D06-968E-7CD62D39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885060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0760" y="4038480"/>
            <a:ext cx="885060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A6CEB-A263-49B1-878B-5649DB07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0760" y="403848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03848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F89E2-9AC9-403D-9FA3-F9B89B8B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33440" y="95544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6120" y="95544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0760" y="403848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33440" y="403848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6120" y="403848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433FE-753C-4FDC-8963-5890CC8D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4318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955440"/>
            <a:ext cx="4318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7264-0292-4E2F-8B29-B0085959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040" y="955440"/>
            <a:ext cx="4318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40760" y="403848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4318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04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6040" y="403848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604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40760" y="4038480"/>
            <a:ext cx="885060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885060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40760" y="4038480"/>
            <a:ext cx="885060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40760" y="403848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6040" y="403848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33440" y="95544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26120" y="95544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40760" y="403848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33440" y="403848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26120" y="403848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4318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955440"/>
            <a:ext cx="4318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A709-6F4F-4754-88D6-B447D0E8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4318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040" y="955440"/>
            <a:ext cx="4318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6040" y="955440"/>
            <a:ext cx="4318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0760" y="403848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4318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04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6040" y="403848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04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40760" y="4038480"/>
            <a:ext cx="885060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885060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40760" y="4038480"/>
            <a:ext cx="885060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0760" y="403848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6040" y="403848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33440" y="95544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26120" y="95544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40760" y="403848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33440" y="403848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126120" y="4038480"/>
            <a:ext cx="284976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2EA6-A4D9-451A-A81C-4D42DFAB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7FA4-DD67-4780-8145-B0650425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955440"/>
            <a:ext cx="4318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0760" y="403848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9827-2D7C-4C4D-B28C-540B7A8E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4318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403848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D37E-A47D-4DA6-92D7-FC83CC7A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76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955440"/>
            <a:ext cx="431892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0760" y="4038480"/>
            <a:ext cx="8850600" cy="28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BEBB-C3D9-4072-9C62-ED8691D2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3251a3">
              <a:alpha val="1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8"/>
          <p:cNvSpPr/>
          <p:nvPr/>
        </p:nvSpPr>
        <p:spPr>
          <a:xfrm>
            <a:off x="0" y="819000"/>
            <a:ext cx="9144000" cy="3240"/>
          </a:xfrm>
          <a:prstGeom prst="line">
            <a:avLst/>
          </a:prstGeom>
          <a:ln w="19080">
            <a:solidFill>
              <a:srgbClr val="3251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0" y="819000"/>
            <a:ext cx="9144000" cy="3240"/>
          </a:xfrm>
          <a:prstGeom prst="line">
            <a:avLst/>
          </a:prstGeom>
          <a:ln w="19080">
            <a:solidFill>
              <a:srgbClr val="3251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99600" y="6534000"/>
            <a:ext cx="6444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6170-DADD-42DA-BB7D-B454D8CF8B53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557760"/>
            <a:ext cx="289584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-360" y="6544800"/>
            <a:ext cx="277020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419040" cy="6858000"/>
          </a:xfrm>
          <a:prstGeom prst="rect">
            <a:avLst/>
          </a:prstGeom>
          <a:solidFill>
            <a:srgbClr val="04435e"/>
          </a:solidFill>
          <a:ln w="9360">
            <a:solidFill>
              <a:srgbClr val="0443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9"/>
          <p:cNvSpPr/>
          <p:nvPr/>
        </p:nvSpPr>
        <p:spPr>
          <a:xfrm>
            <a:off x="417600" y="0"/>
            <a:ext cx="8726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ORY CHEMISTRY</a:t>
            </a:r>
            <a:br>
              <a:rPr sz="4400"/>
            </a:br>
            <a:r>
              <a:rPr b="0" lang="en-US" sz="4000" spc="-1" strike="noStrike">
                <a:solidFill>
                  <a:srgbClr val="3251a3"/>
                </a:solidFill>
                <a:latin typeface="Arial"/>
              </a:rPr>
              <a:t>Concepts and Critical Thinking</a:t>
            </a:r>
            <a:br>
              <a:rPr sz="4000"/>
            </a:br>
            <a:br>
              <a:rPr sz="400"/>
            </a:br>
            <a:r>
              <a:rPr b="0" lang="en-US" sz="2200" spc="-1" strike="noStrike">
                <a:solidFill>
                  <a:srgbClr val="00a76d"/>
                </a:solidFill>
                <a:latin typeface="Arial"/>
              </a:rPr>
              <a:t>Sixth Edition by Charles H. Corw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3251a3">
              <a:alpha val="1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41120" y="955440"/>
            <a:ext cx="900288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557760"/>
            <a:ext cx="289584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499600" y="6534000"/>
            <a:ext cx="6444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15ED-DDA5-43BC-A65A-248D361F85D2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dt" idx="6"/>
          </p:nvPr>
        </p:nvSpPr>
        <p:spPr>
          <a:xfrm>
            <a:off x="460080" y="6544800"/>
            <a:ext cx="277020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9"/>
          <p:cNvSpPr/>
          <p:nvPr/>
        </p:nvSpPr>
        <p:spPr>
          <a:xfrm>
            <a:off x="1881360" y="6340320"/>
            <a:ext cx="534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Christopher G. Hamaker, Illinois State University, Normal 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© 2010,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0" y="0"/>
            <a:ext cx="419040" cy="6858000"/>
          </a:xfrm>
          <a:prstGeom prst="rect">
            <a:avLst/>
          </a:prstGeom>
          <a:solidFill>
            <a:srgbClr val="04435e"/>
          </a:solidFill>
          <a:ln w="9360">
            <a:solidFill>
              <a:srgbClr val="0443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17600" y="0"/>
            <a:ext cx="8726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ORY CHEMISTRY</a:t>
            </a:r>
            <a:br>
              <a:rPr sz="4400"/>
            </a:br>
            <a:r>
              <a:rPr b="0" lang="en-US" sz="4000" spc="-1" strike="noStrike">
                <a:solidFill>
                  <a:srgbClr val="3251a3"/>
                </a:solidFill>
                <a:latin typeface="Arial"/>
              </a:rPr>
              <a:t>Concepts &amp; Connections</a:t>
            </a:r>
            <a:br>
              <a:rPr sz="4000"/>
            </a:br>
            <a:br>
              <a:rPr sz="400"/>
            </a:br>
            <a:r>
              <a:rPr b="0" lang="en-US" sz="2200" spc="-1" strike="noStrike">
                <a:solidFill>
                  <a:srgbClr val="00a76d"/>
                </a:solidFill>
                <a:latin typeface="Arial"/>
              </a:rPr>
              <a:t>Sixth Edition by Charles H. Corw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8" descr="02_00CO"/>
          <p:cNvPicPr/>
          <p:nvPr/>
        </p:nvPicPr>
        <p:blipFill>
          <a:blip r:embed="rId2"/>
          <a:srcRect l="0" t="0" r="272" b="4007"/>
          <a:stretch/>
        </p:blipFill>
        <p:spPr>
          <a:xfrm>
            <a:off x="3732120" y="1747800"/>
            <a:ext cx="5411880" cy="46404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3251a3">
              <a:alpha val="1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9"/>
          <p:cNvSpPr/>
          <p:nvPr/>
        </p:nvSpPr>
        <p:spPr>
          <a:xfrm>
            <a:off x="1881360" y="6340320"/>
            <a:ext cx="534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Christopher G. Hamaker, Illinois State University, Normal 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© 2010,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0" y="0"/>
            <a:ext cx="419040" cy="6858000"/>
          </a:xfrm>
          <a:prstGeom prst="rect">
            <a:avLst/>
          </a:prstGeom>
          <a:solidFill>
            <a:srgbClr val="04435e"/>
          </a:solidFill>
          <a:ln w="9360">
            <a:solidFill>
              <a:srgbClr val="0443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417600" y="0"/>
            <a:ext cx="8726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ORY CHEMISTRY</a:t>
            </a:r>
            <a:br>
              <a:rPr sz="4400"/>
            </a:br>
            <a:r>
              <a:rPr b="0" lang="en-US" sz="4000" spc="-1" strike="noStrike">
                <a:solidFill>
                  <a:srgbClr val="3251a3"/>
                </a:solidFill>
                <a:latin typeface="Arial"/>
              </a:rPr>
              <a:t>Concepts &amp; Connections</a:t>
            </a:r>
            <a:br>
              <a:rPr sz="4000"/>
            </a:br>
            <a:br>
              <a:rPr sz="400"/>
            </a:br>
            <a:r>
              <a:rPr b="0" lang="en-US" sz="2200" spc="-1" strike="noStrike">
                <a:solidFill>
                  <a:srgbClr val="00a76d"/>
                </a:solidFill>
                <a:latin typeface="Arial"/>
              </a:rPr>
              <a:t>Sixth Edition by Charles H. Corw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3251a3">
              <a:alpha val="1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20480" y="2298240"/>
            <a:ext cx="3051000" cy="7938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2eee2"/>
                </a:solidFill>
                <a:latin typeface="Arial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55480" y="3104640"/>
            <a:ext cx="4119840" cy="228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tr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Christopher Ha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157640" y="2060640"/>
            <a:ext cx="4205160" cy="42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C8A8E-1A84-4D5D-94C7-58935F8B6C0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Metric Equival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write unit equations for the conversion between different metric un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fi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eans 1000 basic units, so 1 kilometer is 1000 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t equation is 1 km = 1000 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, a millimeter is 1/1000 of a meter, so the unit equation is 1000 mm = 1 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4C7D-9DF2-41E3-9ED8-9AC52EBC4E0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Metric Unit F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1000 m = 1 km, we can write the following unit factors for converting between meters and kilo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 km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or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 m                  1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1000 mm = 1 m, we can write the following unit fact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000 mm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or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1 m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m                      10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CBFC-067A-4C52-BCEC-8877FA6A9F2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Metric–Metric Con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use the unit analysis method we learned in Chapter 2 to do metric–metric conversion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, there are three 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down the unit asked for in the 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down the given value related to the 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unit factor(s) to convert the given unit to the units desired in the 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A237-DE5C-4FFE-984D-E6F29772EEA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Metric–Metric Conversion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40760" y="955800"/>
            <a:ext cx="88506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he mass in grams of a 325 mg aspirin tabl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We want 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We write down the given: 325 m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: We apply a unit factor (1000 mg = 1 g) and round to three significant fig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1971720" y="4863960"/>
            <a:ext cx="5060160" cy="1099080"/>
            <a:chOff x="1971720" y="4863960"/>
            <a:chExt cx="5060160" cy="1099080"/>
          </a:xfrm>
        </p:grpSpPr>
        <p:grpSp>
          <p:nvGrpSpPr>
            <p:cNvPr id="208" name="Group 6"/>
            <p:cNvGrpSpPr/>
            <p:nvPr/>
          </p:nvGrpSpPr>
          <p:grpSpPr>
            <a:xfrm>
              <a:off x="1971720" y="4863960"/>
              <a:ext cx="5060160" cy="1099080"/>
              <a:chOff x="1971720" y="4863960"/>
              <a:chExt cx="5060160" cy="1099080"/>
            </a:xfrm>
          </p:grpSpPr>
          <p:sp>
            <p:nvSpPr>
              <p:cNvPr id="209" name="Text Box 7"/>
              <p:cNvSpPr/>
              <p:nvPr/>
            </p:nvSpPr>
            <p:spPr>
              <a:xfrm>
                <a:off x="1971720" y="5122800"/>
                <a:ext cx="1697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325 mg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Text Box 8"/>
              <p:cNvSpPr/>
              <p:nvPr/>
            </p:nvSpPr>
            <p:spPr>
              <a:xfrm>
                <a:off x="5191560" y="5122800"/>
                <a:ext cx="1840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=  0.325 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Text Box 9"/>
              <p:cNvSpPr/>
              <p:nvPr/>
            </p:nvSpPr>
            <p:spPr>
              <a:xfrm>
                <a:off x="3684240" y="5381640"/>
                <a:ext cx="1852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00 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Text Box 10"/>
              <p:cNvSpPr/>
              <p:nvPr/>
            </p:nvSpPr>
            <p:spPr>
              <a:xfrm>
                <a:off x="4176360" y="4863960"/>
                <a:ext cx="763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 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11"/>
              <p:cNvSpPr/>
              <p:nvPr/>
            </p:nvSpPr>
            <p:spPr>
              <a:xfrm>
                <a:off x="3839760" y="5435640"/>
                <a:ext cx="1305000" cy="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Line 12"/>
            <p:cNvSpPr/>
            <p:nvPr/>
          </p:nvSpPr>
          <p:spPr>
            <a:xfrm flipV="1">
              <a:off x="2768400" y="5343120"/>
              <a:ext cx="507960" cy="284040"/>
            </a:xfrm>
            <a:prstGeom prst="line">
              <a:avLst/>
            </a:prstGeom>
            <a:ln w="38160">
              <a:solidFill>
                <a:srgbClr val="d81f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3"/>
            <p:cNvSpPr/>
            <p:nvPr/>
          </p:nvSpPr>
          <p:spPr>
            <a:xfrm flipV="1">
              <a:off x="4611600" y="5604840"/>
              <a:ext cx="507960" cy="284040"/>
            </a:xfrm>
            <a:prstGeom prst="line">
              <a:avLst/>
            </a:prstGeom>
            <a:ln w="38160">
              <a:solidFill>
                <a:srgbClr val="d81f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27C4-D8F7-4C2F-B63F-8C4BCA5618F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Two Metric–Metric Con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hospital has 125 deciliters of blood plasma.  What is the volume in millilit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We want the answer in m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We have 125 d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: We need to first convert dL to L and then convert L to m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 L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000 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dL                    1 L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F028-759C-4ED4-9461-03185398E36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366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Two Metric–Metric Conversions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40760" y="1300320"/>
            <a:ext cx="8850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both unit factors, and round the answer to three significant dig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 that both dL and L units cancel, leaving us with units of m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883080" y="3662280"/>
            <a:ext cx="7431480" cy="1098720"/>
            <a:chOff x="883080" y="3662280"/>
            <a:chExt cx="7431480" cy="1098720"/>
          </a:xfrm>
        </p:grpSpPr>
        <p:grpSp>
          <p:nvGrpSpPr>
            <p:cNvPr id="221" name="Group 5"/>
            <p:cNvGrpSpPr/>
            <p:nvPr/>
          </p:nvGrpSpPr>
          <p:grpSpPr>
            <a:xfrm>
              <a:off x="883080" y="3662280"/>
              <a:ext cx="7431480" cy="1098720"/>
              <a:chOff x="883080" y="3662280"/>
              <a:chExt cx="7431480" cy="1098720"/>
            </a:xfrm>
          </p:grpSpPr>
          <p:sp>
            <p:nvSpPr>
              <p:cNvPr id="222" name="Text Box 6"/>
              <p:cNvSpPr/>
              <p:nvPr/>
            </p:nvSpPr>
            <p:spPr>
              <a:xfrm>
                <a:off x="883080" y="3920760"/>
                <a:ext cx="1628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25 dL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Text Box 7"/>
              <p:cNvSpPr/>
              <p:nvPr/>
            </p:nvSpPr>
            <p:spPr>
              <a:xfrm>
                <a:off x="6010920" y="3920760"/>
                <a:ext cx="230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= 12,500 m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8"/>
              <p:cNvSpPr/>
              <p:nvPr/>
            </p:nvSpPr>
            <p:spPr>
              <a:xfrm>
                <a:off x="3796920" y="3920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Group 9"/>
              <p:cNvGrpSpPr/>
              <p:nvPr/>
            </p:nvGrpSpPr>
            <p:grpSpPr>
              <a:xfrm>
                <a:off x="2525400" y="3662280"/>
                <a:ext cx="1143720" cy="1098720"/>
                <a:chOff x="2525400" y="3662280"/>
                <a:chExt cx="1143720" cy="1098720"/>
              </a:xfrm>
            </p:grpSpPr>
            <p:sp>
              <p:nvSpPr>
                <p:cNvPr id="226" name="Text Box 10"/>
                <p:cNvSpPr/>
                <p:nvPr/>
              </p:nvSpPr>
              <p:spPr>
                <a:xfrm>
                  <a:off x="2525400" y="4179600"/>
                  <a:ext cx="1143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10 d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Text Box 11"/>
                <p:cNvSpPr/>
                <p:nvPr/>
              </p:nvSpPr>
              <p:spPr>
                <a:xfrm>
                  <a:off x="2616120" y="3662280"/>
                  <a:ext cx="837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1 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Line 12"/>
                <p:cNvSpPr/>
                <p:nvPr/>
              </p:nvSpPr>
              <p:spPr>
                <a:xfrm>
                  <a:off x="2568600" y="4233600"/>
                  <a:ext cx="1033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Group 13"/>
              <p:cNvGrpSpPr/>
              <p:nvPr/>
            </p:nvGrpSpPr>
            <p:grpSpPr>
              <a:xfrm>
                <a:off x="4253760" y="3678120"/>
                <a:ext cx="1665000" cy="1082880"/>
                <a:chOff x="4253760" y="3678120"/>
                <a:chExt cx="1665000" cy="1082880"/>
              </a:xfrm>
            </p:grpSpPr>
            <p:sp>
              <p:nvSpPr>
                <p:cNvPr id="230" name="Text Box 14"/>
                <p:cNvSpPr/>
                <p:nvPr/>
              </p:nvSpPr>
              <p:spPr>
                <a:xfrm>
                  <a:off x="4253760" y="3678120"/>
                  <a:ext cx="1665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1000 m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Text Box 15"/>
                <p:cNvSpPr/>
                <p:nvPr/>
              </p:nvSpPr>
              <p:spPr>
                <a:xfrm>
                  <a:off x="4692600" y="4179600"/>
                  <a:ext cx="837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1 L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Line 16"/>
                <p:cNvSpPr/>
                <p:nvPr/>
              </p:nvSpPr>
              <p:spPr>
                <a:xfrm>
                  <a:off x="4373280" y="4228920"/>
                  <a:ext cx="1444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3" name="Line 17"/>
            <p:cNvSpPr/>
            <p:nvPr/>
          </p:nvSpPr>
          <p:spPr>
            <a:xfrm flipV="1">
              <a:off x="1652400" y="4090680"/>
              <a:ext cx="507960" cy="284400"/>
            </a:xfrm>
            <a:prstGeom prst="line">
              <a:avLst/>
            </a:prstGeom>
            <a:ln w="38160">
              <a:solidFill>
                <a:srgbClr val="d81f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8"/>
            <p:cNvSpPr/>
            <p:nvPr/>
          </p:nvSpPr>
          <p:spPr>
            <a:xfrm flipV="1">
              <a:off x="3030480" y="4355640"/>
              <a:ext cx="507960" cy="284040"/>
            </a:xfrm>
            <a:prstGeom prst="line">
              <a:avLst/>
            </a:prstGeom>
            <a:ln w="38160">
              <a:solidFill>
                <a:srgbClr val="d81f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9"/>
            <p:cNvSpPr/>
            <p:nvPr/>
          </p:nvSpPr>
          <p:spPr>
            <a:xfrm flipH="1" flipV="1">
              <a:off x="5051160" y="4343040"/>
              <a:ext cx="301680" cy="322200"/>
            </a:xfrm>
            <a:prstGeom prst="line">
              <a:avLst/>
            </a:prstGeom>
            <a:ln w="38160">
              <a:solidFill>
                <a:srgbClr val="00a7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20"/>
            <p:cNvSpPr/>
            <p:nvPr/>
          </p:nvSpPr>
          <p:spPr>
            <a:xfrm flipH="1" flipV="1">
              <a:off x="3060360" y="3847680"/>
              <a:ext cx="301320" cy="322200"/>
            </a:xfrm>
            <a:prstGeom prst="line">
              <a:avLst/>
            </a:prstGeom>
            <a:ln w="38160">
              <a:solidFill>
                <a:srgbClr val="00a7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A059-40F5-48BC-8DE8-B791A533731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Another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0760" y="955440"/>
            <a:ext cx="8850600" cy="33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ss of the Earth’s moon is 7.3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 What is the mass expressed in megagrams, M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ant Mg; we have 7.3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kilograms to grams, and then grams to mega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21"/>
          <p:cNvGrpSpPr/>
          <p:nvPr/>
        </p:nvGrpSpPr>
        <p:grpSpPr>
          <a:xfrm>
            <a:off x="270360" y="4498920"/>
            <a:ext cx="8598240" cy="1037880"/>
            <a:chOff x="270360" y="4498920"/>
            <a:chExt cx="8598240" cy="1037880"/>
          </a:xfrm>
        </p:grpSpPr>
        <p:grpSp>
          <p:nvGrpSpPr>
            <p:cNvPr id="240" name="Group 5"/>
            <p:cNvGrpSpPr/>
            <p:nvPr/>
          </p:nvGrpSpPr>
          <p:grpSpPr>
            <a:xfrm>
              <a:off x="270360" y="4498920"/>
              <a:ext cx="8598240" cy="1037880"/>
              <a:chOff x="270360" y="4498920"/>
              <a:chExt cx="8598240" cy="1037880"/>
            </a:xfrm>
          </p:grpSpPr>
          <p:sp>
            <p:nvSpPr>
              <p:cNvPr id="241" name="Text Box 6"/>
              <p:cNvSpPr/>
              <p:nvPr/>
            </p:nvSpPr>
            <p:spPr>
              <a:xfrm>
                <a:off x="270360" y="4757760"/>
                <a:ext cx="2408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7.35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10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2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kg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Text Box 7"/>
              <p:cNvSpPr/>
              <p:nvPr/>
            </p:nvSpPr>
            <p:spPr>
              <a:xfrm>
                <a:off x="6301440" y="4757760"/>
                <a:ext cx="256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5.98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10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9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M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8"/>
              <p:cNvSpPr/>
              <p:nvPr/>
            </p:nvSpPr>
            <p:spPr>
              <a:xfrm>
                <a:off x="4067280" y="4757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Group 9"/>
              <p:cNvGrpSpPr/>
              <p:nvPr/>
            </p:nvGrpSpPr>
            <p:grpSpPr>
              <a:xfrm>
                <a:off x="2835720" y="4498920"/>
                <a:ext cx="1160640" cy="1037880"/>
                <a:chOff x="2835720" y="4498920"/>
                <a:chExt cx="1160640" cy="1037880"/>
              </a:xfrm>
            </p:grpSpPr>
            <p:sp>
              <p:nvSpPr>
                <p:cNvPr id="245" name="Text Box 10"/>
                <p:cNvSpPr/>
                <p:nvPr/>
              </p:nvSpPr>
              <p:spPr>
                <a:xfrm>
                  <a:off x="3013920" y="5016240"/>
                  <a:ext cx="803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 kg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Text Box 11"/>
                <p:cNvSpPr/>
                <p:nvPr/>
              </p:nvSpPr>
              <p:spPr>
                <a:xfrm>
                  <a:off x="2835720" y="4498920"/>
                  <a:ext cx="1160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000 g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12"/>
                <p:cNvSpPr/>
                <p:nvPr/>
              </p:nvSpPr>
              <p:spPr>
                <a:xfrm>
                  <a:off x="2925360" y="5022720"/>
                  <a:ext cx="1033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13"/>
              <p:cNvGrpSpPr/>
              <p:nvPr/>
            </p:nvGrpSpPr>
            <p:grpSpPr>
              <a:xfrm>
                <a:off x="4518000" y="4500360"/>
                <a:ext cx="1695600" cy="1036440"/>
                <a:chOff x="4518000" y="4500360"/>
                <a:chExt cx="1695600" cy="1036440"/>
              </a:xfrm>
            </p:grpSpPr>
            <p:sp>
              <p:nvSpPr>
                <p:cNvPr id="249" name="Text Box 14"/>
                <p:cNvSpPr/>
                <p:nvPr/>
              </p:nvSpPr>
              <p:spPr>
                <a:xfrm>
                  <a:off x="4896000" y="4500360"/>
                  <a:ext cx="941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 Mg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Text Box 15"/>
                <p:cNvSpPr/>
                <p:nvPr/>
              </p:nvSpPr>
              <p:spPr>
                <a:xfrm>
                  <a:off x="4518000" y="5016240"/>
                  <a:ext cx="1695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000000 g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16"/>
                <p:cNvSpPr/>
                <p:nvPr/>
              </p:nvSpPr>
              <p:spPr>
                <a:xfrm>
                  <a:off x="4643280" y="5018040"/>
                  <a:ext cx="1444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2" name="Line 17"/>
            <p:cNvSpPr/>
            <p:nvPr/>
          </p:nvSpPr>
          <p:spPr>
            <a:xfrm flipV="1">
              <a:off x="3325680" y="5167080"/>
              <a:ext cx="507960" cy="284040"/>
            </a:xfrm>
            <a:prstGeom prst="line">
              <a:avLst/>
            </a:prstGeom>
            <a:ln w="38160">
              <a:solidFill>
                <a:srgbClr val="d81f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18"/>
            <p:cNvSpPr/>
            <p:nvPr/>
          </p:nvSpPr>
          <p:spPr>
            <a:xfrm flipH="1" flipV="1">
              <a:off x="5894280" y="5190840"/>
              <a:ext cx="301680" cy="322200"/>
            </a:xfrm>
            <a:prstGeom prst="line">
              <a:avLst/>
            </a:prstGeom>
            <a:ln w="38160">
              <a:solidFill>
                <a:srgbClr val="00a7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19"/>
            <p:cNvSpPr/>
            <p:nvPr/>
          </p:nvSpPr>
          <p:spPr>
            <a:xfrm flipH="1" flipV="1">
              <a:off x="3673440" y="4667040"/>
              <a:ext cx="301680" cy="322200"/>
            </a:xfrm>
            <a:prstGeom prst="line">
              <a:avLst/>
            </a:prstGeom>
            <a:ln w="38160">
              <a:solidFill>
                <a:srgbClr val="00a7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20"/>
            <p:cNvSpPr/>
            <p:nvPr/>
          </p:nvSpPr>
          <p:spPr>
            <a:xfrm flipV="1">
              <a:off x="1952640" y="4935240"/>
              <a:ext cx="507960" cy="284040"/>
            </a:xfrm>
            <a:prstGeom prst="line">
              <a:avLst/>
            </a:prstGeom>
            <a:ln w="38160">
              <a:solidFill>
                <a:srgbClr val="d81f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29D8-B2B3-4955-83A9-0D72EB3070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Metric and English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40760" y="955800"/>
            <a:ext cx="8850600" cy="24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glish system is still very common in the United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ften have to convert between English and metric un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33360" y="3497400"/>
            <a:ext cx="8534520" cy="291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8484-9C72-4DCD-93B8-4714E41B0BD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Metric–English Conv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0760" y="955440"/>
            <a:ext cx="8850600" cy="34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ength of an American football field, including the end zones, is 120 yards.  What is the length in met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120 yd to meters (given that                       1 yd = 0.914 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1917360" y="4610160"/>
            <a:ext cx="4868640" cy="1098720"/>
            <a:chOff x="1917360" y="4610160"/>
            <a:chExt cx="4868640" cy="1098720"/>
          </a:xfrm>
        </p:grpSpPr>
        <p:grpSp>
          <p:nvGrpSpPr>
            <p:cNvPr id="262" name="Group 6"/>
            <p:cNvGrpSpPr/>
            <p:nvPr/>
          </p:nvGrpSpPr>
          <p:grpSpPr>
            <a:xfrm>
              <a:off x="1917360" y="4610160"/>
              <a:ext cx="4868640" cy="1098720"/>
              <a:chOff x="1917360" y="4610160"/>
              <a:chExt cx="4868640" cy="1098720"/>
            </a:xfrm>
          </p:grpSpPr>
          <p:sp>
            <p:nvSpPr>
              <p:cNvPr id="263" name="Text Box 7"/>
              <p:cNvSpPr/>
              <p:nvPr/>
            </p:nvSpPr>
            <p:spPr>
              <a:xfrm>
                <a:off x="1917360" y="4869000"/>
                <a:ext cx="1686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20 yd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Text Box 8"/>
              <p:cNvSpPr/>
              <p:nvPr/>
            </p:nvSpPr>
            <p:spPr>
              <a:xfrm>
                <a:off x="5139360" y="4869000"/>
                <a:ext cx="1646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=  110 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" name="Group 9"/>
              <p:cNvGrpSpPr/>
              <p:nvPr/>
            </p:nvGrpSpPr>
            <p:grpSpPr>
              <a:xfrm>
                <a:off x="3587760" y="4610160"/>
                <a:ext cx="1518840" cy="1098720"/>
                <a:chOff x="3587760" y="4610160"/>
                <a:chExt cx="1518840" cy="1098720"/>
              </a:xfrm>
            </p:grpSpPr>
            <p:sp>
              <p:nvSpPr>
                <p:cNvPr id="266" name="Text Box 10"/>
                <p:cNvSpPr/>
                <p:nvPr/>
              </p:nvSpPr>
              <p:spPr>
                <a:xfrm>
                  <a:off x="3900240" y="5127480"/>
                  <a:ext cx="8953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1 yd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Text Box 11"/>
                <p:cNvSpPr/>
                <p:nvPr/>
              </p:nvSpPr>
              <p:spPr>
                <a:xfrm>
                  <a:off x="3587760" y="4610160"/>
                  <a:ext cx="1518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0.914 m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Line 12"/>
                <p:cNvSpPr/>
                <p:nvPr/>
              </p:nvSpPr>
              <p:spPr>
                <a:xfrm>
                  <a:off x="3830400" y="5181480"/>
                  <a:ext cx="1033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9" name="Line 14"/>
            <p:cNvSpPr/>
            <p:nvPr/>
          </p:nvSpPr>
          <p:spPr>
            <a:xfrm flipV="1">
              <a:off x="4218120" y="5324040"/>
              <a:ext cx="534960" cy="273240"/>
            </a:xfrm>
            <a:prstGeom prst="line">
              <a:avLst/>
            </a:prstGeom>
            <a:ln w="38160">
              <a:solidFill>
                <a:srgbClr val="d81f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5"/>
            <p:cNvSpPr/>
            <p:nvPr/>
          </p:nvSpPr>
          <p:spPr>
            <a:xfrm flipV="1">
              <a:off x="2674800" y="5038200"/>
              <a:ext cx="534960" cy="273240"/>
            </a:xfrm>
            <a:prstGeom prst="line">
              <a:avLst/>
            </a:prstGeom>
            <a:ln w="38160">
              <a:solidFill>
                <a:srgbClr val="d81f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F6DD-1250-4EFF-B766-A36D51A9F79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English–Metric Conv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half-gallon carton contains 64.0 fl oz of milk.  How many milliliters of milk are in a cart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ant mL; we have 64.0 fl 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1 qt = 32 fl oz, and 1 qt = 946 m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21"/>
          <p:cNvGrpSpPr/>
          <p:nvPr/>
        </p:nvGrpSpPr>
        <p:grpSpPr>
          <a:xfrm>
            <a:off x="412200" y="4152960"/>
            <a:ext cx="7718040" cy="1099080"/>
            <a:chOff x="412200" y="4152960"/>
            <a:chExt cx="7718040" cy="1099080"/>
          </a:xfrm>
        </p:grpSpPr>
        <p:grpSp>
          <p:nvGrpSpPr>
            <p:cNvPr id="274" name="Group 22"/>
            <p:cNvGrpSpPr/>
            <p:nvPr/>
          </p:nvGrpSpPr>
          <p:grpSpPr>
            <a:xfrm>
              <a:off x="412200" y="4152960"/>
              <a:ext cx="7718040" cy="1099080"/>
              <a:chOff x="412200" y="4152960"/>
              <a:chExt cx="7718040" cy="1099080"/>
            </a:xfrm>
          </p:grpSpPr>
          <p:sp>
            <p:nvSpPr>
              <p:cNvPr id="275" name="Text Box 23"/>
              <p:cNvSpPr/>
              <p:nvPr/>
            </p:nvSpPr>
            <p:spPr>
              <a:xfrm>
                <a:off x="412200" y="4411800"/>
                <a:ext cx="2116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64.0 fl oz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Text Box 24"/>
              <p:cNvSpPr/>
              <p:nvPr/>
            </p:nvSpPr>
            <p:spPr>
              <a:xfrm>
                <a:off x="6030720" y="4411800"/>
                <a:ext cx="2099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= 1,890 m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25"/>
              <p:cNvSpPr/>
              <p:nvPr/>
            </p:nvSpPr>
            <p:spPr>
              <a:xfrm>
                <a:off x="4032000" y="44118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Group 26"/>
              <p:cNvGrpSpPr/>
              <p:nvPr/>
            </p:nvGrpSpPr>
            <p:grpSpPr>
              <a:xfrm>
                <a:off x="2539080" y="4152960"/>
                <a:ext cx="1427400" cy="1099080"/>
                <a:chOff x="2539080" y="4152960"/>
                <a:chExt cx="1427400" cy="1099080"/>
              </a:xfrm>
            </p:grpSpPr>
            <p:sp>
              <p:nvSpPr>
                <p:cNvPr id="279" name="Text Box 27"/>
                <p:cNvSpPr/>
                <p:nvPr/>
              </p:nvSpPr>
              <p:spPr>
                <a:xfrm>
                  <a:off x="2539080" y="4670640"/>
                  <a:ext cx="1427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32 fl oz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Text Box 28"/>
                <p:cNvSpPr/>
                <p:nvPr/>
              </p:nvSpPr>
              <p:spPr>
                <a:xfrm>
                  <a:off x="2849760" y="4152960"/>
                  <a:ext cx="803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1 q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29"/>
                <p:cNvSpPr/>
                <p:nvPr/>
              </p:nvSpPr>
              <p:spPr>
                <a:xfrm>
                  <a:off x="2735280" y="4724640"/>
                  <a:ext cx="1033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Group 30"/>
              <p:cNvGrpSpPr/>
              <p:nvPr/>
            </p:nvGrpSpPr>
            <p:grpSpPr>
              <a:xfrm>
                <a:off x="4508640" y="4154400"/>
                <a:ext cx="1460880" cy="1097280"/>
                <a:chOff x="4508640" y="4154400"/>
                <a:chExt cx="1460880" cy="1097280"/>
              </a:xfrm>
            </p:grpSpPr>
            <p:sp>
              <p:nvSpPr>
                <p:cNvPr id="283" name="Text Box 31"/>
                <p:cNvSpPr/>
                <p:nvPr/>
              </p:nvSpPr>
              <p:spPr>
                <a:xfrm>
                  <a:off x="4508640" y="4154400"/>
                  <a:ext cx="1460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946 m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Text Box 32"/>
                <p:cNvSpPr/>
                <p:nvPr/>
              </p:nvSpPr>
              <p:spPr>
                <a:xfrm>
                  <a:off x="4783320" y="4670280"/>
                  <a:ext cx="906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1 qt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Line 33"/>
                <p:cNvSpPr/>
                <p:nvPr/>
              </p:nvSpPr>
              <p:spPr>
                <a:xfrm>
                  <a:off x="4515120" y="4719240"/>
                  <a:ext cx="1444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6" name="Line 34"/>
            <p:cNvSpPr/>
            <p:nvPr/>
          </p:nvSpPr>
          <p:spPr>
            <a:xfrm flipV="1">
              <a:off x="1314360" y="4613400"/>
              <a:ext cx="812880" cy="271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35"/>
            <p:cNvSpPr/>
            <p:nvPr/>
          </p:nvSpPr>
          <p:spPr>
            <a:xfrm flipH="1" flipV="1">
              <a:off x="5162400" y="4838400"/>
              <a:ext cx="301680" cy="322200"/>
            </a:xfrm>
            <a:prstGeom prst="line">
              <a:avLst/>
            </a:prstGeom>
            <a:ln w="38160">
              <a:solidFill>
                <a:srgbClr val="00a7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36"/>
            <p:cNvSpPr/>
            <p:nvPr/>
          </p:nvSpPr>
          <p:spPr>
            <a:xfrm flipH="1" flipV="1">
              <a:off x="3297240" y="4330440"/>
              <a:ext cx="301680" cy="322200"/>
            </a:xfrm>
            <a:prstGeom prst="line">
              <a:avLst/>
            </a:prstGeom>
            <a:ln w="38160">
              <a:solidFill>
                <a:srgbClr val="00a7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37"/>
            <p:cNvSpPr/>
            <p:nvPr/>
          </p:nvSpPr>
          <p:spPr>
            <a:xfrm flipV="1">
              <a:off x="3110040" y="4870440"/>
              <a:ext cx="812520" cy="271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3801-CCB9-42D7-967F-4604168D26B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The Metric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glish sys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used primarily in the British Empire and wasn’t very standardiz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rench organized a committee to devise a universal measuring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bout 10 years, the committee designed and agreed on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etric sys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tric system offers simplicity with a single base unit for each measur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100A-5B30-467A-ADA6-380AA7AFBC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Compound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measurements have a ratio of un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the speed limit on many highways is 55 miles per hour.  How would you convert this to meters per seco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one unit at a time using unit fa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, miles 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, hou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c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1464-6F79-4033-80AE-33A82A02010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Compound Unit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40760" y="955440"/>
            <a:ext cx="885060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otorcycle is traveling at 75 km/hour.  What is the speed in meters per seco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km/h; we want m/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1 km = 1000 m and 1 h = 3600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22"/>
          <p:cNvGrpSpPr/>
          <p:nvPr/>
        </p:nvGrpSpPr>
        <p:grpSpPr>
          <a:xfrm>
            <a:off x="1006200" y="4011480"/>
            <a:ext cx="6837120" cy="1097280"/>
            <a:chOff x="1006200" y="4011480"/>
            <a:chExt cx="6837120" cy="1097280"/>
          </a:xfrm>
        </p:grpSpPr>
        <p:grpSp>
          <p:nvGrpSpPr>
            <p:cNvPr id="295" name="Group 5"/>
            <p:cNvGrpSpPr/>
            <p:nvPr/>
          </p:nvGrpSpPr>
          <p:grpSpPr>
            <a:xfrm>
              <a:off x="1006200" y="4011480"/>
              <a:ext cx="6837120" cy="1097280"/>
              <a:chOff x="1006200" y="4011480"/>
              <a:chExt cx="6837120" cy="1097280"/>
            </a:xfrm>
          </p:grpSpPr>
          <p:sp>
            <p:nvSpPr>
              <p:cNvPr id="296" name="Text Box 6"/>
              <p:cNvSpPr/>
              <p:nvPr/>
            </p:nvSpPr>
            <p:spPr>
              <a:xfrm>
                <a:off x="6231600" y="4268520"/>
                <a:ext cx="1611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= 21 m/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7"/>
              <p:cNvSpPr/>
              <p:nvPr/>
            </p:nvSpPr>
            <p:spPr>
              <a:xfrm>
                <a:off x="4295880" y="4268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Text Box 8"/>
              <p:cNvSpPr/>
              <p:nvPr/>
            </p:nvSpPr>
            <p:spPr>
              <a:xfrm>
                <a:off x="2998800" y="4500360"/>
                <a:ext cx="1008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 k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Text Box 9"/>
              <p:cNvSpPr/>
              <p:nvPr/>
            </p:nvSpPr>
            <p:spPr>
              <a:xfrm>
                <a:off x="2794680" y="4037040"/>
                <a:ext cx="1416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00 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10"/>
              <p:cNvSpPr/>
              <p:nvPr/>
            </p:nvSpPr>
            <p:spPr>
              <a:xfrm>
                <a:off x="2880000" y="4581360"/>
                <a:ext cx="124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Text Box 11"/>
              <p:cNvSpPr/>
              <p:nvPr/>
            </p:nvSpPr>
            <p:spPr>
              <a:xfrm>
                <a:off x="5056200" y="4011480"/>
                <a:ext cx="82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 h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12"/>
              <p:cNvSpPr/>
              <p:nvPr/>
            </p:nvSpPr>
            <p:spPr>
              <a:xfrm>
                <a:off x="4788720" y="4527360"/>
                <a:ext cx="1360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3600 s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Line 13"/>
              <p:cNvSpPr/>
              <p:nvPr/>
            </p:nvSpPr>
            <p:spPr>
              <a:xfrm>
                <a:off x="4918320" y="4576680"/>
                <a:ext cx="110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Text Box 14"/>
              <p:cNvSpPr/>
              <p:nvPr/>
            </p:nvSpPr>
            <p:spPr>
              <a:xfrm>
                <a:off x="1006200" y="4011480"/>
                <a:ext cx="121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75 k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Text Box 15"/>
              <p:cNvSpPr/>
              <p:nvPr/>
            </p:nvSpPr>
            <p:spPr>
              <a:xfrm>
                <a:off x="1300680" y="4527360"/>
                <a:ext cx="622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hr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Line 16"/>
              <p:cNvSpPr/>
              <p:nvPr/>
            </p:nvSpPr>
            <p:spPr>
              <a:xfrm flipV="1">
                <a:off x="1041480" y="4563720"/>
                <a:ext cx="113976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17"/>
              <p:cNvSpPr/>
              <p:nvPr/>
            </p:nvSpPr>
            <p:spPr>
              <a:xfrm>
                <a:off x="2301840" y="4268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Line 18"/>
            <p:cNvSpPr/>
            <p:nvPr/>
          </p:nvSpPr>
          <p:spPr>
            <a:xfrm flipH="1" flipV="1">
              <a:off x="1347840" y="4709880"/>
              <a:ext cx="301680" cy="322200"/>
            </a:xfrm>
            <a:prstGeom prst="line">
              <a:avLst/>
            </a:prstGeom>
            <a:ln w="38160">
              <a:solidFill>
                <a:srgbClr val="00a7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9"/>
            <p:cNvSpPr/>
            <p:nvPr/>
          </p:nvSpPr>
          <p:spPr>
            <a:xfrm flipH="1" flipV="1">
              <a:off x="5445360" y="4201920"/>
              <a:ext cx="301680" cy="322200"/>
            </a:xfrm>
            <a:prstGeom prst="line">
              <a:avLst/>
            </a:prstGeom>
            <a:ln w="38160">
              <a:solidFill>
                <a:srgbClr val="00a7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0"/>
            <p:cNvSpPr/>
            <p:nvPr/>
          </p:nvSpPr>
          <p:spPr>
            <a:xfrm flipV="1">
              <a:off x="1592280" y="4206600"/>
              <a:ext cx="520920" cy="258840"/>
            </a:xfrm>
            <a:prstGeom prst="line">
              <a:avLst/>
            </a:prstGeom>
            <a:ln w="38160">
              <a:solidFill>
                <a:srgbClr val="d81f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1"/>
            <p:cNvSpPr/>
            <p:nvPr/>
          </p:nvSpPr>
          <p:spPr>
            <a:xfrm flipV="1">
              <a:off x="3414960" y="4729320"/>
              <a:ext cx="520560" cy="258480"/>
            </a:xfrm>
            <a:prstGeom prst="line">
              <a:avLst/>
            </a:prstGeom>
            <a:ln w="38160">
              <a:solidFill>
                <a:srgbClr val="d81f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545F-ABF9-43AC-A4AB-C6F78E18B44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Volume by Calc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olume of an object is calculated by multiplying the length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y the width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y the thicknes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ree measurements must be in the same un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n object measures 3 cm by 2 cm by 1 cm, the volume is 6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ubic centimeter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873F-C41A-49CA-8C31-30C6C99CD5E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Cubic Volume and Liquid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40760" y="955440"/>
            <a:ext cx="8850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ter (L) is the basic unit of volume in the metric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41120" y="2114640"/>
            <a:ext cx="329112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i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fined as the volume occupied by a cube that is 10 cm on each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481560" y="1636560"/>
            <a:ext cx="5557680" cy="460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3A14-7CE7-42E7-99D6-39B4E9AB922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Cubic and Liquid Volume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liter is equal to 1000 cubic centi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c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 c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 cm  =  100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 L = 1000 m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 m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8359-AF8C-49C4-87FF-6B046486E56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Cubic–Liquid Volume Conv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1120" y="955440"/>
            <a:ext cx="842184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automobile engine displaces a volume of 498 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 each cylinder.  What is the displacement of a cylinder in cubic inches, i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ant 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we have 498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1 in = 2.54 c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ree ti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263520" y="4437000"/>
            <a:ext cx="8647560" cy="1117440"/>
            <a:chOff x="263520" y="4437000"/>
            <a:chExt cx="8647560" cy="1117440"/>
          </a:xfrm>
        </p:grpSpPr>
        <p:grpSp>
          <p:nvGrpSpPr>
            <p:cNvPr id="323" name="Group 5"/>
            <p:cNvGrpSpPr/>
            <p:nvPr/>
          </p:nvGrpSpPr>
          <p:grpSpPr>
            <a:xfrm>
              <a:off x="263520" y="4437000"/>
              <a:ext cx="8647560" cy="1098720"/>
              <a:chOff x="263520" y="4437000"/>
              <a:chExt cx="8647560" cy="1098720"/>
            </a:xfrm>
          </p:grpSpPr>
          <p:sp>
            <p:nvSpPr>
              <p:cNvPr id="324" name="Text Box 6"/>
              <p:cNvSpPr/>
              <p:nvPr/>
            </p:nvSpPr>
            <p:spPr>
              <a:xfrm>
                <a:off x="7147080" y="4695840"/>
                <a:ext cx="176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= 30.4 in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7"/>
              <p:cNvSpPr/>
              <p:nvPr/>
            </p:nvSpPr>
            <p:spPr>
              <a:xfrm>
                <a:off x="5328720" y="4695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" name="Group 8"/>
              <p:cNvGrpSpPr/>
              <p:nvPr/>
            </p:nvGrpSpPr>
            <p:grpSpPr>
              <a:xfrm>
                <a:off x="3827160" y="4437000"/>
                <a:ext cx="1598040" cy="1097280"/>
                <a:chOff x="3827160" y="4437000"/>
                <a:chExt cx="1598040" cy="1097280"/>
              </a:xfrm>
            </p:grpSpPr>
            <p:sp>
              <p:nvSpPr>
                <p:cNvPr id="327" name="Text Box 9"/>
                <p:cNvSpPr/>
                <p:nvPr/>
              </p:nvSpPr>
              <p:spPr>
                <a:xfrm>
                  <a:off x="4223880" y="4437000"/>
                  <a:ext cx="803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1 in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Text Box 10"/>
                <p:cNvSpPr/>
                <p:nvPr/>
              </p:nvSpPr>
              <p:spPr>
                <a:xfrm>
                  <a:off x="3827160" y="4952880"/>
                  <a:ext cx="1598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2.54 cm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Line 11"/>
                <p:cNvSpPr/>
                <p:nvPr/>
              </p:nvSpPr>
              <p:spPr>
                <a:xfrm>
                  <a:off x="4075920" y="5002200"/>
                  <a:ext cx="1099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0" name="Rectangle 12"/>
              <p:cNvSpPr/>
              <p:nvPr/>
            </p:nvSpPr>
            <p:spPr>
              <a:xfrm>
                <a:off x="3515760" y="4695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Text Box 13"/>
              <p:cNvSpPr/>
              <p:nvPr/>
            </p:nvSpPr>
            <p:spPr>
              <a:xfrm>
                <a:off x="263520" y="4695840"/>
                <a:ext cx="1791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98 cm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" name="Group 14"/>
              <p:cNvGrpSpPr/>
              <p:nvPr/>
            </p:nvGrpSpPr>
            <p:grpSpPr>
              <a:xfrm>
                <a:off x="5641920" y="4438440"/>
                <a:ext cx="1598040" cy="1097280"/>
                <a:chOff x="5641920" y="4438440"/>
                <a:chExt cx="1598040" cy="1097280"/>
              </a:xfrm>
            </p:grpSpPr>
            <p:sp>
              <p:nvSpPr>
                <p:cNvPr id="333" name="Text Box 15"/>
                <p:cNvSpPr/>
                <p:nvPr/>
              </p:nvSpPr>
              <p:spPr>
                <a:xfrm>
                  <a:off x="6038280" y="4438440"/>
                  <a:ext cx="803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1 in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Text Box 16"/>
                <p:cNvSpPr/>
                <p:nvPr/>
              </p:nvSpPr>
              <p:spPr>
                <a:xfrm>
                  <a:off x="5641920" y="4954320"/>
                  <a:ext cx="1598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2.54 cm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Line 17"/>
                <p:cNvSpPr/>
                <p:nvPr/>
              </p:nvSpPr>
              <p:spPr>
                <a:xfrm>
                  <a:off x="5890680" y="5003640"/>
                  <a:ext cx="1099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18"/>
              <p:cNvGrpSpPr/>
              <p:nvPr/>
            </p:nvGrpSpPr>
            <p:grpSpPr>
              <a:xfrm>
                <a:off x="2014200" y="4438440"/>
                <a:ext cx="1598040" cy="1097280"/>
                <a:chOff x="2014200" y="4438440"/>
                <a:chExt cx="1598040" cy="1097280"/>
              </a:xfrm>
            </p:grpSpPr>
            <p:sp>
              <p:nvSpPr>
                <p:cNvPr id="337" name="Text Box 19"/>
                <p:cNvSpPr/>
                <p:nvPr/>
              </p:nvSpPr>
              <p:spPr>
                <a:xfrm>
                  <a:off x="2410920" y="4438440"/>
                  <a:ext cx="803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1 in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Text Box 20"/>
                <p:cNvSpPr/>
                <p:nvPr/>
              </p:nvSpPr>
              <p:spPr>
                <a:xfrm>
                  <a:off x="2014200" y="4954320"/>
                  <a:ext cx="1598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2.54 cm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Line 21"/>
                <p:cNvSpPr/>
                <p:nvPr/>
              </p:nvSpPr>
              <p:spPr>
                <a:xfrm>
                  <a:off x="2262960" y="5003640"/>
                  <a:ext cx="1099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0" name="Line 22"/>
            <p:cNvSpPr/>
            <p:nvPr/>
          </p:nvSpPr>
          <p:spPr>
            <a:xfrm>
              <a:off x="1093680" y="4803840"/>
              <a:ext cx="452520" cy="460080"/>
            </a:xfrm>
            <a:prstGeom prst="line">
              <a:avLst/>
            </a:prstGeom>
            <a:ln w="38160">
              <a:solidFill>
                <a:srgbClr val="d81f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23"/>
            <p:cNvSpPr/>
            <p:nvPr/>
          </p:nvSpPr>
          <p:spPr>
            <a:xfrm flipH="1">
              <a:off x="1117080" y="4808520"/>
              <a:ext cx="436680" cy="487440"/>
            </a:xfrm>
            <a:prstGeom prst="line">
              <a:avLst/>
            </a:prstGeom>
            <a:ln w="38160">
              <a:solidFill>
                <a:srgbClr val="00a7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24"/>
            <p:cNvSpPr/>
            <p:nvPr/>
          </p:nvSpPr>
          <p:spPr>
            <a:xfrm flipH="1">
              <a:off x="996480" y="5072040"/>
              <a:ext cx="700200" cy="1440"/>
            </a:xfrm>
            <a:prstGeom prst="line">
              <a:avLst/>
            </a:prstGeom>
            <a:ln w="38160">
              <a:solidFill>
                <a:srgbClr val="3251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25"/>
            <p:cNvSpPr/>
            <p:nvPr/>
          </p:nvSpPr>
          <p:spPr>
            <a:xfrm>
              <a:off x="2943000" y="5075280"/>
              <a:ext cx="452520" cy="460080"/>
            </a:xfrm>
            <a:prstGeom prst="line">
              <a:avLst/>
            </a:prstGeom>
            <a:ln w="38160">
              <a:solidFill>
                <a:srgbClr val="d81f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26"/>
            <p:cNvSpPr/>
            <p:nvPr/>
          </p:nvSpPr>
          <p:spPr>
            <a:xfrm flipH="1">
              <a:off x="4781520" y="5067360"/>
              <a:ext cx="436320" cy="487080"/>
            </a:xfrm>
            <a:prstGeom prst="line">
              <a:avLst/>
            </a:prstGeom>
            <a:ln w="38160">
              <a:solidFill>
                <a:srgbClr val="00a7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27"/>
            <p:cNvSpPr/>
            <p:nvPr/>
          </p:nvSpPr>
          <p:spPr>
            <a:xfrm flipH="1">
              <a:off x="6474960" y="5303880"/>
              <a:ext cx="700200" cy="1440"/>
            </a:xfrm>
            <a:prstGeom prst="line">
              <a:avLst/>
            </a:prstGeom>
            <a:ln w="38160">
              <a:solidFill>
                <a:srgbClr val="3251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F235-A8EB-4E88-99FB-B1D327ABD41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Volume by Displac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solid has an irregular shape, its volume cannot be determined by measuring its dimen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etermine its volu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direct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measuring the amount of water it displ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echnique is calle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olume by displac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 by displacement can also be used to determine the volume of a g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A8C2-BF63-4D8B-920A-64CDF0378CE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Solid Volume by Displac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0760" y="955800"/>
            <a:ext cx="8850600" cy="20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want to measure the volume of an irregularly shaped piece of j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ally fill a volumetric flask with water and measure the volume of the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141120" y="3271680"/>
            <a:ext cx="41752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the jade, and measure the difference in volu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olume of the jade is 10.5 m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6269040" y="3233880"/>
            <a:ext cx="2701800" cy="30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140360" y="3373560"/>
            <a:ext cx="4954320" cy="302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0E96-D766-4987-8780-54C35B1814D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Gas Volume by Displac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1120" y="955440"/>
            <a:ext cx="860616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want to measure the volume of gas given off in a chemical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as produced displaces the water in the flask into the beaker.                                                   The volume of                                                water displaced                                                    is equal to the                                                    volume of g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502080" y="2711520"/>
            <a:ext cx="5548320" cy="366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B5C7-E10A-4C2C-988D-9764D3B214A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The Density 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 object is a measure of its concentration of m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ity is defined as the mass of an object divided by the volume of the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2725200" y="3728880"/>
            <a:ext cx="3273840" cy="1099080"/>
            <a:chOff x="2725200" y="3728880"/>
            <a:chExt cx="3273840" cy="1099080"/>
          </a:xfrm>
        </p:grpSpPr>
        <p:sp>
          <p:nvSpPr>
            <p:cNvPr id="359" name="Text Box 5"/>
            <p:cNvSpPr/>
            <p:nvPr/>
          </p:nvSpPr>
          <p:spPr>
            <a:xfrm>
              <a:off x="4205880" y="3987720"/>
              <a:ext cx="179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  dens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Group 6"/>
            <p:cNvGrpSpPr/>
            <p:nvPr/>
          </p:nvGrpSpPr>
          <p:grpSpPr>
            <a:xfrm>
              <a:off x="2725200" y="3728880"/>
              <a:ext cx="1404360" cy="1099080"/>
              <a:chOff x="2725200" y="3728880"/>
              <a:chExt cx="1404360" cy="1099080"/>
            </a:xfrm>
          </p:grpSpPr>
          <p:sp>
            <p:nvSpPr>
              <p:cNvPr id="361" name="Text Box 7"/>
              <p:cNvSpPr/>
              <p:nvPr/>
            </p:nvSpPr>
            <p:spPr>
              <a:xfrm>
                <a:off x="2725200" y="4246560"/>
                <a:ext cx="1404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volum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Text Box 8"/>
              <p:cNvSpPr/>
              <p:nvPr/>
            </p:nvSpPr>
            <p:spPr>
              <a:xfrm>
                <a:off x="2927520" y="3728880"/>
                <a:ext cx="996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mas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9"/>
              <p:cNvSpPr/>
              <p:nvPr/>
            </p:nvSpPr>
            <p:spPr>
              <a:xfrm>
                <a:off x="2909880" y="4300560"/>
                <a:ext cx="1033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FA0A-7BEB-43D0-BD3E-6B205661269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Metric System Basic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18960" y="2597040"/>
            <a:ext cx="8534520" cy="26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12B5-AAC4-4A86-8B6A-AA66EDB4C92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Den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0760" y="955800"/>
            <a:ext cx="88506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ity is expressed in different units.  It is usually grams per milliliter (g/mL) for liquids, grams per cubic centimeter (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solids, and grams per liter (g/L) for g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90520" y="3359160"/>
            <a:ext cx="8534520" cy="265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0E08-7BC6-4C24-A6F9-35929FF0D28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Densities of Common Subst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449360" y="888840"/>
            <a:ext cx="6554880" cy="559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D51D-D874-445D-8FF3-68915F23517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Estimating Den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1120" y="955440"/>
            <a:ext cx="59119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estimate the density of a substance by comparing it to another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lid object will float on top of a liquid with a higher den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a density less than that of water, but larger than that of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a density less than that of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ut larger than that of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6141960" y="1390680"/>
            <a:ext cx="2833920" cy="461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4528-D96F-4E47-80E9-F99465EA3B0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Calculating Den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he density of a platinum nugget that has a mass of 224.50 g and a volume of 10.0 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all, density is mass/volu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Group 4"/>
          <p:cNvGrpSpPr/>
          <p:nvPr/>
        </p:nvGrpSpPr>
        <p:grpSpPr>
          <a:xfrm>
            <a:off x="2304000" y="3170160"/>
            <a:ext cx="4148640" cy="1098720"/>
            <a:chOff x="2304000" y="3170160"/>
            <a:chExt cx="4148640" cy="1098720"/>
          </a:xfrm>
        </p:grpSpPr>
        <p:sp>
          <p:nvSpPr>
            <p:cNvPr id="375" name="Text Box 5"/>
            <p:cNvSpPr/>
            <p:nvPr/>
          </p:nvSpPr>
          <p:spPr>
            <a:xfrm>
              <a:off x="4088160" y="3438360"/>
              <a:ext cx="236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  22.5 g/cm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Group 6"/>
            <p:cNvGrpSpPr/>
            <p:nvPr/>
          </p:nvGrpSpPr>
          <p:grpSpPr>
            <a:xfrm>
              <a:off x="2304000" y="3170160"/>
              <a:ext cx="1613160" cy="1098720"/>
              <a:chOff x="2304000" y="3170160"/>
              <a:chExt cx="1613160" cy="1098720"/>
            </a:xfrm>
          </p:grpSpPr>
          <p:sp>
            <p:nvSpPr>
              <p:cNvPr id="377" name="Text Box 7"/>
              <p:cNvSpPr/>
              <p:nvPr/>
            </p:nvSpPr>
            <p:spPr>
              <a:xfrm>
                <a:off x="2304000" y="3687480"/>
                <a:ext cx="161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.0 cm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Text Box 8"/>
              <p:cNvSpPr/>
              <p:nvPr/>
            </p:nvSpPr>
            <p:spPr>
              <a:xfrm>
                <a:off x="2306520" y="3170160"/>
                <a:ext cx="161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24.50 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Line 9"/>
              <p:cNvSpPr/>
              <p:nvPr/>
            </p:nvSpPr>
            <p:spPr>
              <a:xfrm>
                <a:off x="2314800" y="3741480"/>
                <a:ext cx="159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F4A2-38A9-4759-994C-66A5A6B969F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Density as a Unit Fa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use density as a unit factor for conversions between mass and volu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utomobile battery contains 1275 mL of acid.  If the density of battery acid is 1.84 g/mL, how many grams of acid are in an automobile batte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1275 mL; we want gra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749880" y="4538520"/>
            <a:ext cx="5015160" cy="1098720"/>
            <a:chOff x="749880" y="4538520"/>
            <a:chExt cx="5015160" cy="1098720"/>
          </a:xfrm>
        </p:grpSpPr>
        <p:sp>
          <p:nvSpPr>
            <p:cNvPr id="383" name="Text Box 5"/>
            <p:cNvSpPr/>
            <p:nvPr/>
          </p:nvSpPr>
          <p:spPr>
            <a:xfrm>
              <a:off x="749880" y="4797360"/>
              <a:ext cx="194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275 mL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6"/>
            <p:cNvSpPr/>
            <p:nvPr/>
          </p:nvSpPr>
          <p:spPr>
            <a:xfrm>
              <a:off x="4026960" y="4797360"/>
              <a:ext cx="17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  2350 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Group 7"/>
            <p:cNvGrpSpPr/>
            <p:nvPr/>
          </p:nvGrpSpPr>
          <p:grpSpPr>
            <a:xfrm>
              <a:off x="2785320" y="4538520"/>
              <a:ext cx="1201680" cy="1098720"/>
              <a:chOff x="2785320" y="4538520"/>
              <a:chExt cx="1201680" cy="1098720"/>
            </a:xfrm>
          </p:grpSpPr>
          <p:sp>
            <p:nvSpPr>
              <p:cNvPr id="386" name="Text Box 8"/>
              <p:cNvSpPr/>
              <p:nvPr/>
            </p:nvSpPr>
            <p:spPr>
              <a:xfrm>
                <a:off x="3018960" y="5055840"/>
                <a:ext cx="74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Text Box 9"/>
              <p:cNvSpPr/>
              <p:nvPr/>
            </p:nvSpPr>
            <p:spPr>
              <a:xfrm>
                <a:off x="2785320" y="4538520"/>
                <a:ext cx="120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.84 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10"/>
              <p:cNvSpPr/>
              <p:nvPr/>
            </p:nvSpPr>
            <p:spPr>
              <a:xfrm>
                <a:off x="2869920" y="5109840"/>
                <a:ext cx="1033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Line 11"/>
            <p:cNvSpPr/>
            <p:nvPr/>
          </p:nvSpPr>
          <p:spPr>
            <a:xfrm flipV="1">
              <a:off x="1855800" y="4965840"/>
              <a:ext cx="349200" cy="271440"/>
            </a:xfrm>
            <a:prstGeom prst="line">
              <a:avLst/>
            </a:prstGeom>
            <a:ln w="38160">
              <a:solidFill>
                <a:srgbClr val="d81f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12"/>
            <p:cNvSpPr/>
            <p:nvPr/>
          </p:nvSpPr>
          <p:spPr>
            <a:xfrm flipV="1">
              <a:off x="3143160" y="5251320"/>
              <a:ext cx="493920" cy="236880"/>
            </a:xfrm>
            <a:prstGeom prst="line">
              <a:avLst/>
            </a:prstGeom>
            <a:ln w="38160">
              <a:solidFill>
                <a:srgbClr val="d81f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6559560" y="4141800"/>
            <a:ext cx="1946160" cy="230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774F-1F8C-4FDD-8816-CA5FE4C13BF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Critical Thinking: Gaso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0760" y="955440"/>
            <a:ext cx="88218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ensity of gasoline is 730 g/L at 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F) and 713 g/L at 25 ºC (77 ºF).  What is the mass difference of 1.00 gallon of gasoline at these two temperatures (1 gal = 3.784L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fference is about 60 grams (about 2 %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Group 57"/>
          <p:cNvGrpSpPr/>
          <p:nvPr/>
        </p:nvGrpSpPr>
        <p:grpSpPr>
          <a:xfrm>
            <a:off x="496440" y="3038400"/>
            <a:ext cx="7935480" cy="1130400"/>
            <a:chOff x="496440" y="3038400"/>
            <a:chExt cx="7935480" cy="1130400"/>
          </a:xfrm>
        </p:grpSpPr>
        <p:sp>
          <p:nvSpPr>
            <p:cNvPr id="395" name="Text Box 6"/>
            <p:cNvSpPr/>
            <p:nvPr/>
          </p:nvSpPr>
          <p:spPr>
            <a:xfrm>
              <a:off x="6795720" y="3306600"/>
              <a:ext cx="163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 2760 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5159160" y="3306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3"/>
            <p:cNvSpPr/>
            <p:nvPr/>
          </p:nvSpPr>
          <p:spPr>
            <a:xfrm>
              <a:off x="496440" y="3292560"/>
              <a:ext cx="330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t 0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º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:  1.00 gal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3"/>
            <p:cNvSpPr/>
            <p:nvPr/>
          </p:nvSpPr>
          <p:spPr>
            <a:xfrm flipH="1">
              <a:off x="2989440" y="3376440"/>
              <a:ext cx="436320" cy="487440"/>
            </a:xfrm>
            <a:prstGeom prst="line">
              <a:avLst/>
            </a:prstGeom>
            <a:ln w="38160">
              <a:solidFill>
                <a:srgbClr val="00a7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5604840" y="3038400"/>
              <a:ext cx="109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730 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5940000" y="35542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17"/>
            <p:cNvSpPr/>
            <p:nvPr/>
          </p:nvSpPr>
          <p:spPr>
            <a:xfrm>
              <a:off x="5605560" y="3603600"/>
              <a:ext cx="1100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25"/>
            <p:cNvSpPr/>
            <p:nvPr/>
          </p:nvSpPr>
          <p:spPr>
            <a:xfrm>
              <a:off x="5943600" y="3703680"/>
              <a:ext cx="352440" cy="317520"/>
            </a:xfrm>
            <a:prstGeom prst="line">
              <a:avLst/>
            </a:prstGeom>
            <a:ln w="38160">
              <a:solidFill>
                <a:srgbClr val="d81f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19"/>
            <p:cNvSpPr/>
            <p:nvPr/>
          </p:nvSpPr>
          <p:spPr>
            <a:xfrm>
              <a:off x="3745440" y="3052800"/>
              <a:ext cx="145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.784 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Text Box 20"/>
            <p:cNvSpPr/>
            <p:nvPr/>
          </p:nvSpPr>
          <p:spPr>
            <a:xfrm>
              <a:off x="3927600" y="3568680"/>
              <a:ext cx="108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 ga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3921120" y="3618000"/>
              <a:ext cx="1100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765680" y="3160800"/>
              <a:ext cx="338040" cy="403200"/>
            </a:xfrm>
            <a:prstGeom prst="line">
              <a:avLst/>
            </a:prstGeom>
            <a:ln w="38160">
              <a:solidFill>
                <a:srgbClr val="d81f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6"/>
            <p:cNvSpPr/>
            <p:nvPr/>
          </p:nvSpPr>
          <p:spPr>
            <a:xfrm flipH="1">
              <a:off x="4338720" y="3681360"/>
              <a:ext cx="436320" cy="487440"/>
            </a:xfrm>
            <a:prstGeom prst="line">
              <a:avLst/>
            </a:prstGeom>
            <a:ln w="38160">
              <a:solidFill>
                <a:srgbClr val="00a7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58"/>
          <p:cNvGrpSpPr/>
          <p:nvPr/>
        </p:nvGrpSpPr>
        <p:grpSpPr>
          <a:xfrm>
            <a:off x="462960" y="4390920"/>
            <a:ext cx="8078400" cy="1130400"/>
            <a:chOff x="462960" y="4390920"/>
            <a:chExt cx="8078400" cy="1130400"/>
          </a:xfrm>
        </p:grpSpPr>
        <p:sp>
          <p:nvSpPr>
            <p:cNvPr id="409" name="Text Box 36"/>
            <p:cNvSpPr/>
            <p:nvPr/>
          </p:nvSpPr>
          <p:spPr>
            <a:xfrm>
              <a:off x="6905160" y="4659480"/>
              <a:ext cx="163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 2700 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37"/>
            <p:cNvSpPr/>
            <p:nvPr/>
          </p:nvSpPr>
          <p:spPr>
            <a:xfrm>
              <a:off x="5268600" y="4659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Text Box 39"/>
            <p:cNvSpPr/>
            <p:nvPr/>
          </p:nvSpPr>
          <p:spPr>
            <a:xfrm>
              <a:off x="462960" y="4659480"/>
              <a:ext cx="340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t 25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º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: 1.00 gal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0"/>
            <p:cNvSpPr/>
            <p:nvPr/>
          </p:nvSpPr>
          <p:spPr>
            <a:xfrm flipH="1">
              <a:off x="3013200" y="4743360"/>
              <a:ext cx="436320" cy="487440"/>
            </a:xfrm>
            <a:prstGeom prst="line">
              <a:avLst/>
            </a:prstGeom>
            <a:ln w="38160">
              <a:solidFill>
                <a:srgbClr val="00a7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43"/>
            <p:cNvSpPr/>
            <p:nvPr/>
          </p:nvSpPr>
          <p:spPr>
            <a:xfrm>
              <a:off x="5714640" y="4390920"/>
              <a:ext cx="109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713 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44"/>
            <p:cNvSpPr/>
            <p:nvPr/>
          </p:nvSpPr>
          <p:spPr>
            <a:xfrm>
              <a:off x="6049440" y="49068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45"/>
            <p:cNvSpPr/>
            <p:nvPr/>
          </p:nvSpPr>
          <p:spPr>
            <a:xfrm>
              <a:off x="5715000" y="4956120"/>
              <a:ext cx="1100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46"/>
            <p:cNvSpPr/>
            <p:nvPr/>
          </p:nvSpPr>
          <p:spPr>
            <a:xfrm>
              <a:off x="6067440" y="5056200"/>
              <a:ext cx="338040" cy="317520"/>
            </a:xfrm>
            <a:prstGeom prst="line">
              <a:avLst/>
            </a:prstGeom>
            <a:ln w="38160">
              <a:solidFill>
                <a:srgbClr val="d81f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Text Box 49"/>
            <p:cNvSpPr/>
            <p:nvPr/>
          </p:nvSpPr>
          <p:spPr>
            <a:xfrm>
              <a:off x="3854880" y="4405320"/>
              <a:ext cx="145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.784 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50"/>
            <p:cNvSpPr/>
            <p:nvPr/>
          </p:nvSpPr>
          <p:spPr>
            <a:xfrm>
              <a:off x="4037040" y="4921200"/>
              <a:ext cx="108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 ga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1"/>
            <p:cNvSpPr/>
            <p:nvPr/>
          </p:nvSpPr>
          <p:spPr>
            <a:xfrm>
              <a:off x="4030560" y="4970520"/>
              <a:ext cx="1100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52"/>
            <p:cNvSpPr/>
            <p:nvPr/>
          </p:nvSpPr>
          <p:spPr>
            <a:xfrm>
              <a:off x="4875120" y="4527720"/>
              <a:ext cx="309600" cy="345960"/>
            </a:xfrm>
            <a:prstGeom prst="line">
              <a:avLst/>
            </a:prstGeom>
            <a:ln w="38160">
              <a:solidFill>
                <a:srgbClr val="d81f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53"/>
            <p:cNvSpPr/>
            <p:nvPr/>
          </p:nvSpPr>
          <p:spPr>
            <a:xfrm flipH="1">
              <a:off x="4447800" y="5033880"/>
              <a:ext cx="436680" cy="487440"/>
            </a:xfrm>
            <a:prstGeom prst="line">
              <a:avLst/>
            </a:prstGeom>
            <a:ln w="38160">
              <a:solidFill>
                <a:srgbClr val="00a7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83B37-D1D4-4C90-BA5D-B1FD0F665B0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measure of the average kinetic energy of the individual particles in a sa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hree temperature sc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s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hren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lv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lvin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sol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emperature sc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8AE7-721A-4D82-91A9-0CE26F85215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0760" y="955440"/>
            <a:ext cx="8850600" cy="27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Fahrenheit scale, water freezes at 3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and boils at 21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Celsius scale, water freezes at 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 and boils at 100 °C.  These are the reference points for the Celsius sc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141120" y="3906720"/>
            <a:ext cx="4372200" cy="22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 freezes at 273 K and boils at 373 K on the Kelvin sca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4454640" y="3595680"/>
            <a:ext cx="4689360" cy="264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AF84-70F9-472C-A7E2-9DE7D6924ED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Temperature Con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equation for convert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equation for convert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fro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to K, add 27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+ 273 =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4"/>
          <p:cNvGrpSpPr/>
          <p:nvPr/>
        </p:nvGrpSpPr>
        <p:grpSpPr>
          <a:xfrm>
            <a:off x="2518560" y="1549440"/>
            <a:ext cx="3874680" cy="1312920"/>
            <a:chOff x="2518560" y="1549440"/>
            <a:chExt cx="3874680" cy="1312920"/>
          </a:xfrm>
        </p:grpSpPr>
        <p:sp>
          <p:nvSpPr>
            <p:cNvPr id="431" name="Text Box 5"/>
            <p:cNvSpPr/>
            <p:nvPr/>
          </p:nvSpPr>
          <p:spPr>
            <a:xfrm>
              <a:off x="5491800" y="197136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 °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6"/>
            <p:cNvSpPr/>
            <p:nvPr/>
          </p:nvSpPr>
          <p:spPr>
            <a:xfrm>
              <a:off x="2518560" y="1960200"/>
              <a:ext cx="89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Group 7"/>
            <p:cNvGrpSpPr/>
            <p:nvPr/>
          </p:nvGrpSpPr>
          <p:grpSpPr>
            <a:xfrm>
              <a:off x="3349800" y="1549440"/>
              <a:ext cx="2066040" cy="1312920"/>
              <a:chOff x="3349800" y="1549440"/>
              <a:chExt cx="2066040" cy="1312920"/>
            </a:xfrm>
          </p:grpSpPr>
          <p:grpSp>
            <p:nvGrpSpPr>
              <p:cNvPr id="434" name="Group 8"/>
              <p:cNvGrpSpPr/>
              <p:nvPr/>
            </p:nvGrpSpPr>
            <p:grpSpPr>
              <a:xfrm>
                <a:off x="3755880" y="1684080"/>
                <a:ext cx="1227600" cy="1098720"/>
                <a:chOff x="3755880" y="1684080"/>
                <a:chExt cx="1227600" cy="1098720"/>
              </a:xfrm>
            </p:grpSpPr>
            <p:sp>
              <p:nvSpPr>
                <p:cNvPr id="435" name="Text Box 9"/>
                <p:cNvSpPr/>
                <p:nvPr/>
              </p:nvSpPr>
              <p:spPr>
                <a:xfrm>
                  <a:off x="3755880" y="2201400"/>
                  <a:ext cx="12276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100°C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Text Box 10"/>
                <p:cNvSpPr/>
                <p:nvPr/>
              </p:nvSpPr>
              <p:spPr>
                <a:xfrm>
                  <a:off x="3778560" y="1684080"/>
                  <a:ext cx="1181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180°F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Line 11"/>
                <p:cNvSpPr/>
                <p:nvPr/>
              </p:nvSpPr>
              <p:spPr>
                <a:xfrm>
                  <a:off x="3774960" y="2255400"/>
                  <a:ext cx="1189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8" name="Text Box 12"/>
              <p:cNvSpPr/>
              <p:nvPr/>
            </p:nvSpPr>
            <p:spPr>
              <a:xfrm>
                <a:off x="3349800" y="1549440"/>
                <a:ext cx="20660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000000"/>
                    </a:solidFill>
                    <a:latin typeface="Times New Roman"/>
                  </a:rPr>
                  <a:t>(    </a:t>
                </a:r>
                <a:r>
                  <a:rPr b="0" lang="en-US" sz="6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9" name="Group 13"/>
          <p:cNvGrpSpPr/>
          <p:nvPr/>
        </p:nvGrpSpPr>
        <p:grpSpPr>
          <a:xfrm>
            <a:off x="1587960" y="3422520"/>
            <a:ext cx="5347800" cy="1312920"/>
            <a:chOff x="1587960" y="3422520"/>
            <a:chExt cx="5347800" cy="1312920"/>
          </a:xfrm>
        </p:grpSpPr>
        <p:sp>
          <p:nvSpPr>
            <p:cNvPr id="440" name="Text Box 14"/>
            <p:cNvSpPr/>
            <p:nvPr/>
          </p:nvSpPr>
          <p:spPr>
            <a:xfrm>
              <a:off x="3846240" y="3422520"/>
              <a:ext cx="2066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Times New Roman"/>
                </a:rPr>
                <a:t>(    </a:t>
              </a: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Text Box 15"/>
            <p:cNvSpPr/>
            <p:nvPr/>
          </p:nvSpPr>
          <p:spPr>
            <a:xfrm>
              <a:off x="4252680" y="4149720"/>
              <a:ext cx="11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80°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Text Box 16"/>
            <p:cNvSpPr/>
            <p:nvPr/>
          </p:nvSpPr>
          <p:spPr>
            <a:xfrm>
              <a:off x="4274280" y="3606840"/>
              <a:ext cx="122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0°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7"/>
            <p:cNvSpPr/>
            <p:nvPr/>
          </p:nvSpPr>
          <p:spPr>
            <a:xfrm>
              <a:off x="4281120" y="4167000"/>
              <a:ext cx="11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Text Box 18"/>
            <p:cNvSpPr/>
            <p:nvPr/>
          </p:nvSpPr>
          <p:spPr>
            <a:xfrm>
              <a:off x="5988600" y="399888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 °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Text Box 19"/>
            <p:cNvSpPr/>
            <p:nvPr/>
          </p:nvSpPr>
          <p:spPr>
            <a:xfrm>
              <a:off x="1587960" y="4087800"/>
              <a:ext cx="225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°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- 32°F)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945F-ACB4-4687-9346-863B080F4033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Fahrenheit–Celsius Con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temperature is 98.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.  What is body temperature in degre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sius?  In Kelv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= 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+ 273  =  37.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+ 273  =  310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4"/>
          <p:cNvGrpSpPr/>
          <p:nvPr/>
        </p:nvGrpSpPr>
        <p:grpSpPr>
          <a:xfrm>
            <a:off x="993960" y="2459160"/>
            <a:ext cx="6795000" cy="1312920"/>
            <a:chOff x="993960" y="2459160"/>
            <a:chExt cx="6795000" cy="1312920"/>
          </a:xfrm>
        </p:grpSpPr>
        <p:sp>
          <p:nvSpPr>
            <p:cNvPr id="449" name="Text Box 5"/>
            <p:cNvSpPr/>
            <p:nvPr/>
          </p:nvSpPr>
          <p:spPr>
            <a:xfrm>
              <a:off x="4043520" y="2459160"/>
              <a:ext cx="2066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Times New Roman"/>
                </a:rPr>
                <a:t>(    </a:t>
              </a: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Group 6"/>
            <p:cNvGrpSpPr/>
            <p:nvPr/>
          </p:nvGrpSpPr>
          <p:grpSpPr>
            <a:xfrm>
              <a:off x="4449960" y="2593800"/>
              <a:ext cx="1248840" cy="1098720"/>
              <a:chOff x="4449960" y="2593800"/>
              <a:chExt cx="1248840" cy="1098720"/>
            </a:xfrm>
          </p:grpSpPr>
          <p:sp>
            <p:nvSpPr>
              <p:cNvPr id="451" name="Text Box 7"/>
              <p:cNvSpPr/>
              <p:nvPr/>
            </p:nvSpPr>
            <p:spPr>
              <a:xfrm>
                <a:off x="4449960" y="3111120"/>
                <a:ext cx="1181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80°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Text Box 8"/>
              <p:cNvSpPr/>
              <p:nvPr/>
            </p:nvSpPr>
            <p:spPr>
              <a:xfrm>
                <a:off x="4471200" y="2593800"/>
                <a:ext cx="1227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0°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Line 9"/>
              <p:cNvSpPr/>
              <p:nvPr/>
            </p:nvSpPr>
            <p:spPr>
              <a:xfrm>
                <a:off x="4468320" y="3165120"/>
                <a:ext cx="11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Text Box 10"/>
            <p:cNvSpPr/>
            <p:nvPr/>
          </p:nvSpPr>
          <p:spPr>
            <a:xfrm>
              <a:off x="6126840" y="2881080"/>
              <a:ext cx="16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 37.0°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11"/>
            <p:cNvSpPr/>
            <p:nvPr/>
          </p:nvSpPr>
          <p:spPr>
            <a:xfrm>
              <a:off x="993960" y="2955600"/>
              <a:ext cx="297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98.6°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- 32°F)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30DD-AF43-46D7-A845-6A1B9B9459ED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Original Metric Unit 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er was defined as 1/10,000,000 of the distance from the North Pole to the equ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kilogram (1000 grams) was equal to the mass of a cube of water measuring 0.1 m on each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ter was set equal to the volume of one kilogram of water at 4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162240" y="4394160"/>
            <a:ext cx="307332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451560" y="4444920"/>
            <a:ext cx="247644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4549680"/>
            <a:ext cx="8534160" cy="19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F86E-0F42-4E00-90DD-AE851515203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H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e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flow of energy from an object of higher temperature to an object of lower temp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measure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tal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sure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verage 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particles in a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is often expressed in terms of joules (J) or calories (c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A05A-A4ED-48D7-BD8A-56AB1526E697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Heat Versus 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40760" y="955440"/>
            <a:ext cx="885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both beakers below have the same temperature (1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, the beaker on the right has twice the amount of heat because it has twice the amount of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1806480" y="3176640"/>
            <a:ext cx="5548320" cy="30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7B1A-C2A7-43B7-B76D-788A38D495F3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Specific H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pecific he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substance is the amount of heat required to bring about a change in temp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expressed with units of calories per gram per degree Celsi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rger the specific heat, the more heat is required to raise the temperature of the sub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737C-495D-422F-B4B1-FA99F51695EC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Chapter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sic units in the metric system are grams for mass, liters for volume, and meters for d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se units are modified using prefixes to reduce or enlarge the base units by factors of 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use unit factors to convert between metric un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convert between metric and English units using unit fa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B4F7-67DC-4AA5-BB55-9D4D18B5F64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Chapter Summary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fined as leng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d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ickn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 can also be determined by displacement of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mass divided by volu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2386080" y="1598760"/>
            <a:ext cx="4268880" cy="209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6C37-9685-45D0-8447-494D0E96EFA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Chapter Summary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measure of the average energy of the particles in a sa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e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measure of the total energy of a sub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pecific he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measure of how much heat is required to raise the temperature of a sub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BE1C-F9F4-4C94-95AF-85B6BEE64F7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Metric System Advan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advantage of the metric system is that it is a decimal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u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enlarge or reduce the basic un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il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er is 1000 me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l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er is 1/1000 of a me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13BA-D2B0-4930-A171-15792643294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Metric System Prefi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40760" y="955800"/>
            <a:ext cx="8850600" cy="51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table lists the common prefixes used in the metric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44520" y="2013120"/>
            <a:ext cx="8534520" cy="445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41713-4DE9-48CA-830E-BC633FD1798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Metric Prefixes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the prefi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ncreases a base unit by 1000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 is 1000 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fi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ecreases a base unit by a factor of 1000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100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ers in 1 me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1637-4C5C-4752-A1C7-3F12FA8BE86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Metric Symb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s of metric units are abbreviated using symbols. Use the prefix symbol followed by the symbol for the base unit, 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nometer is abbreviated n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gram is abbreviate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liter is abbreviated d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gasecond is abbreviated 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8AB7-C5E1-466B-BA1B-8D41AA4CF11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solidFill>
            <a:srgbClr val="04435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eee2"/>
                </a:solidFill>
                <a:latin typeface="Arial"/>
              </a:rPr>
              <a:t>Nano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0760" y="955440"/>
            <a:ext cx="8850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notechnolo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fers to devices and processes on the 1–100 nm sc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reference, a human hair is about 100,000 nm thi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NA helix is a nanoscale substance, with a diameter of about 1 n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noscale hollow tubes, calle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arbon nanotub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ave slippery inner surfaces that allow for the easy flow of flu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FDE5-96D2-4F65-9C92-DA40A0BE55C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© 2011 Pearson Education,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16:10:50Z</dcterms:created>
  <dc:creator>Christopher G Hamaker</dc:creator>
  <dc:description/>
  <dc:language>en-US</dc:language>
  <cp:lastModifiedBy>GEX, Inc.</cp:lastModifiedBy>
  <dcterms:modified xsi:type="dcterms:W3CDTF">2009-12-31T19:11:06Z</dcterms:modified>
  <cp:revision>159</cp:revision>
  <dc:subject/>
  <dc:title>Introductory Chemistry: Concepts &amp; Connections 4th Edition by Charles H. Corwin</dc:title>
</cp:coreProperties>
</file>